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7DD-67AA-4911-8666-D6B9B92B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871-E48E-4D66-BE80-2D46DAF7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45A-2103-471A-9C63-1E33670B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61B-ED6B-4B31-8323-4CFE5762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222-F281-4F8F-B7DB-D9BE1308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46E-98DB-4F9E-95DD-AB102610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675-F932-4769-B206-D0BB4E0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CA3-D6C7-4EB0-9F8E-E7DA2DA5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351-57EE-4F53-BC15-990AA5D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699-E8C9-400E-8096-0F9CF69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26A-53AB-4EC8-ACB1-9351CAD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CAC-3510-4428-9F3E-E605665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524-94C5-4B19-8279-C58C4F40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add narration to a slides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lide to be nar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Record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et Microph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Nar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Narration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rrent Slide or Firs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– Click – Talk –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 into the 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Pause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lack exit screen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Nar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on’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ing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soun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narration will overrid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1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4:21Z</dcterms:created>
  <dc:creator>klanders</dc:creator>
  <dc:description/>
  <dc:language>en-US</dc:language>
  <cp:lastModifiedBy>klanders</cp:lastModifiedBy>
  <dcterms:modified xsi:type="dcterms:W3CDTF">2008-01-18T21:32:06Z</dcterms:modified>
  <cp:revision>9</cp:revision>
  <dc:subject/>
  <dc:title>Adding Narration to a Slideshow</dc:title>
</cp:coreProperties>
</file>